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38.jpeg" ContentType="image/jpeg"/>
  <Override PartName="/ppt/media/image41.jpeg" ContentType="image/jpeg"/>
  <Override PartName="/ppt/media/image39.jpeg" ContentType="image/jpeg"/>
  <Override PartName="/ppt/media/image8.png" ContentType="image/png"/>
  <Override PartName="/ppt/media/image11.jpeg" ContentType="image/jpeg"/>
  <Override PartName="/ppt/media/image30.jpeg" ContentType="image/jpeg"/>
  <Override PartName="/ppt/media/image31.jpeg" ContentType="image/jpeg"/>
  <Override PartName="/ppt/media/image3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7.jpeg" ContentType="image/jpeg"/>
  <Override PartName="/ppt/media/image6.png" ContentType="image/png"/>
  <Override PartName="/ppt/media/image29.jpeg" ContentType="image/jpeg"/>
  <Override PartName="/ppt/media/image40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776A-9341-452C-8CEB-BF41871E2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EF26-6667-4D0A-B7CC-4B556421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5BE6-FEDC-4F1D-8E70-7154C8713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BA7E-B9BA-4864-874D-9DFDFFB04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9B62-199B-44D5-855B-2A0F98828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EB4FF-E6C6-4724-8555-055EAED9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A226C-AB7E-4A55-8D36-196FFE64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8C87-5B76-4715-84C9-1323EC44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2CEB-25CA-40E8-9F89-3E829748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612A-0095-4188-B58C-DF1A3713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FD447-68BD-4834-9A61-D0B49C90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6DD6-F8C2-4A02-86AA-E75A7B23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DC39-C476-4F47-B84E-4652CCD9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DC1E-B1DA-4318-8302-047A0333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3FB77-D7CE-427D-88CB-C78D9500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E01A-A8D2-4A03-B24A-3FD72D3A0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A9A1-4FF2-41CA-AFA1-A4996773C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63A0B-298C-4649-87EF-1E81DCAC4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0D32B-6C94-473E-867A-1104BCD2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7EC07-2E28-4270-97DC-5743208F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574E3-7F5B-4CEE-8E38-DA42181F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177AF-C0B1-4804-A0BA-9C2483EA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3E0A-C97E-4118-B5FD-CDC1C6D4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84172-934B-41D9-A1D7-3E4A914F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79119-DDFC-4505-888A-C590A337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0C155-1889-4930-BDDB-743CA54D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8F8FB-8947-49EC-971D-B9EA62C4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68BC1-968E-41EE-862E-C548F8B7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A462E-ADD6-4D78-9D11-83F94F475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D39C2-A858-4064-8F9B-078418CF4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5DABE-BFB4-4E4E-99BF-797163C17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EFD37-E2E5-424F-A0FC-FA5E2AAF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C371D-AD05-4109-BC04-554180562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6069-CAD2-4026-A7AD-C078230E7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49D18-8FC2-462F-AA89-2669E3E7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626FC-ECAF-4378-8FBF-137D3A55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021DE-FB03-4842-B474-99FC979D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642E0-1D74-41F7-A5F7-DF1FAB76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F3301-1F6E-48B2-B98E-037FA12D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85338-7CFF-4106-A9D5-753BC4AB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CF706-8E4F-4C74-96A2-67E77ABF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10964-CC9B-4C43-895C-5C052111A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E16AF-A795-4268-A5D9-A3D1A4A7B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4DDD-E917-4E81-8DB0-0696EB11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E628-6EF4-435F-A4BE-B8003DB8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7ABA-B7DE-4C46-B809-28AD3C08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2B90-D5C5-44F4-BFD4-210DCE90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BE4F-9B9D-4601-A56F-1A0A50FE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BABA-BCDE-4B3B-A8C5-F18E3E3D14E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CFE1-B2F9-4A54-A445-B6AF61BD7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1CED-6363-4FEF-B0C7-F43DCB2D9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978B-2514-48B9-8294-8090F6DC6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5.pn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214200" y="2428920"/>
            <a:ext cx="87156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2060"/>
                </a:solidFill>
                <a:latin typeface="Cambria"/>
              </a:rPr>
              <a:t>ОБОЉЕЊА</a:t>
            </a:r>
            <a:r>
              <a:rPr b="1" lang="sr-Latn-CS" sz="4400" spc="-1" strike="noStrike">
                <a:solidFill>
                  <a:srgbClr val="002060"/>
                </a:solidFill>
                <a:latin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2060"/>
                </a:solidFill>
                <a:latin typeface="Cambria"/>
              </a:rPr>
              <a:t>ПЉУВАЧНИХ</a:t>
            </a:r>
            <a:r>
              <a:rPr b="1" lang="sr-Latn-CS" sz="4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4400" spc="-1" strike="noStrike">
                <a:solidFill>
                  <a:srgbClr val="002060"/>
                </a:solidFill>
                <a:latin typeface="Cambria"/>
              </a:rPr>
              <a:t>ЖЛЕЗ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1415880" y="53308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mbria"/>
              </a:rPr>
              <a:t>Доц др Слободан Лончареви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3" descr="memo grb copy"/>
          <p:cNvPicPr/>
          <p:nvPr/>
        </p:nvPicPr>
        <p:blipFill>
          <a:blip r:embed="rId2"/>
          <a:srcRect l="47095" t="0" r="41659" b="0"/>
          <a:stretch/>
        </p:blipFill>
        <p:spPr>
          <a:xfrm>
            <a:off x="762120" y="457200"/>
            <a:ext cx="653760" cy="106668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"/>
          <p:cNvSpPr/>
          <p:nvPr/>
        </p:nvSpPr>
        <p:spPr>
          <a:xfrm>
            <a:off x="971640" y="4149720"/>
            <a:ext cx="708660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Cambria"/>
              </a:rPr>
              <a:t>Назив предмета: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  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МАКСИЛОФАЦИЈАЛНА</a:t>
            </a:r>
            <a:r>
              <a:rPr b="1" lang="en-US" sz="1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ХИРУРГ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Cambria"/>
              </a:rPr>
              <a:t>Предавање бр. 0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Час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: 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 0</a:t>
            </a:r>
            <a:r>
              <a:rPr b="1" lang="en-US" sz="1400" spc="-1" strike="noStrike">
                <a:solidFill>
                  <a:srgbClr val="ffffff"/>
                </a:solidFill>
                <a:latin typeface="Cambri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TextBox 9" descr=""/>
          <p:cNvPicPr/>
          <p:nvPr/>
        </p:nvPicPr>
        <p:blipFill>
          <a:blip r:embed="rId3"/>
          <a:stretch/>
        </p:blipFill>
        <p:spPr>
          <a:xfrm>
            <a:off x="1504800" y="560520"/>
            <a:ext cx="554832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ОБОЉЕЊА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ЉУВАЧНИХ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ЖЛЕЗ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УРОЂЕНЕ АНОМАЛ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ЗАПАЉЕЊА ПЉУВАЧНИХ ЖЛЕЗ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БОЉЕЊА У СКЛОПУ РЕУМАТСКИХ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ИЈАЛОЛИТИЈА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ЦИ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000272"/>
          <p:cNvPicPr/>
          <p:nvPr/>
        </p:nvPicPr>
        <p:blipFill>
          <a:blip r:embed="rId2"/>
          <a:stretch/>
        </p:blipFill>
        <p:spPr>
          <a:xfrm>
            <a:off x="4876920" y="1523880"/>
            <a:ext cx="39621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004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ДИЈАГНОСТИКА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ОБОЉЕЊА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ЉУВАЧНИХ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ЖЛЕЗ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99680" y="126828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линичк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глед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ндге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тивн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нимц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иалографиј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цинтиграфиј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лтразву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хографиј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мпјутеризова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омографиј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уклеар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агнет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зонанц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NM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истолош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гле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ласич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иопсиј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спирацио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иопсиј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КЛИНИЧКИ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ЕГЛЕ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0040" y="107172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линич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гле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љувач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дразуме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спекци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лпаци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ондира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вод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на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спекциј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ич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ви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пољашњ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гле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рифицију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водно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на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акод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гле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љувачк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б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кспресиј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лпа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бмандибулар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вод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имануел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ем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д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ук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лаз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раоралн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блингвалн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руг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ук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нтакт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ж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бмандибуларно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ел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bimanual_palpation1333803711520"/>
          <p:cNvPicPr/>
          <p:nvPr/>
        </p:nvPicPr>
        <p:blipFill>
          <a:blip r:embed="rId2"/>
          <a:stretch/>
        </p:blipFill>
        <p:spPr>
          <a:xfrm>
            <a:off x="609480" y="4160880"/>
            <a:ext cx="3810240" cy="24112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afp20020401p1379-f1b"/>
          <p:cNvPicPr/>
          <p:nvPr/>
        </p:nvPicPr>
        <p:blipFill>
          <a:blip r:embed="rId3"/>
          <a:stretch/>
        </p:blipFill>
        <p:spPr>
          <a:xfrm>
            <a:off x="4648320" y="4141800"/>
            <a:ext cx="327636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УРОЂЕНЕ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АНОМАЛ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рође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генез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аливарн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њихов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ло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р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тке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суств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ипоплаз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љувачн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рећ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емиатроф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руг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нгениталн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алформац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следиц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ремећа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зво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кржн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укова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ја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кцесорн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љувачн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рећ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ено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на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зна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RS" sz="2800" spc="-1" strike="noStrike">
                <a:solidFill>
                  <a:srgbClr val="000000"/>
                </a:solidFill>
                <a:latin typeface="Arial"/>
              </a:rPr>
              <a:t>glandula parotis accesso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иперплаз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једин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руп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рећ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очн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ингвалн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иде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блингвални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лездама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004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ffffff"/>
                </a:solidFill>
                <a:latin typeface="Arial"/>
              </a:rPr>
              <a:t>ЗАПАЉЕНСКА</a:t>
            </a:r>
            <a:r>
              <a:rPr b="1" lang="sr-Latn-C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400" spc="-1" strike="noStrike">
                <a:solidFill>
                  <a:srgbClr val="ffffff"/>
                </a:solidFill>
                <a:latin typeface="Arial"/>
              </a:rPr>
              <a:t>ОБОЉЕЊА</a:t>
            </a:r>
            <a:r>
              <a:rPr b="1" lang="sr-Latn-C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400" spc="-1" strike="noStrike">
                <a:solidFill>
                  <a:srgbClr val="ffffff"/>
                </a:solidFill>
                <a:latin typeface="Arial"/>
              </a:rPr>
              <a:t>ПЉУВАЧНИХ</a:t>
            </a:r>
            <a:r>
              <a:rPr b="1" lang="sr-Latn-C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400" spc="-1" strike="noStrike">
                <a:solidFill>
                  <a:srgbClr val="ffffff"/>
                </a:solidFill>
                <a:latin typeface="Arial"/>
              </a:rPr>
              <a:t>ЖЛЕЗД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пидемичн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аротит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кутн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актеријс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иалоаденити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роничн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аротит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ikulic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в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бољењ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jög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индро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иалолитијаз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Цист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љувачни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жлез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ffffff"/>
                </a:solidFill>
                <a:latin typeface="Arial"/>
              </a:rPr>
              <a:t>ЕПИДЕМИЧНИ</a:t>
            </a:r>
            <a:r>
              <a:rPr b="1" lang="sr-Latn-C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400" spc="-1" strike="noStrike">
                <a:solidFill>
                  <a:srgbClr val="ffffff"/>
                </a:solidFill>
                <a:latin typeface="Arial"/>
              </a:rPr>
              <a:t>ПАРОТИТИС</a:t>
            </a:r>
            <a:r>
              <a:rPr b="1" lang="sr-Latn-C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400" spc="-1" strike="noStrike">
                <a:solidFill>
                  <a:srgbClr val="ffffff"/>
                </a:solidFill>
                <a:latin typeface="Arial"/>
              </a:rPr>
              <a:t>МУМП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2560" y="1357200"/>
            <a:ext cx="450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Епидемич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ротити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азив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иру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фините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љувач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ре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њих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ожданиц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оза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нкреа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естисе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бољењ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кут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нтагиоз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генерализова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аће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олни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већање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ротидни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ендемич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бољењ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рбаним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редина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шир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пљичн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нфекциј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нфицира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лив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ожд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рина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бољењ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ављ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ец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стављ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рај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мунитет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в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начај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иференцијалн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ијагнозу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екурентн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иалоаденитису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ечењ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епидемичн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ротитис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имптоматско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2" descr="Mumps"/>
          <p:cNvPicPr/>
          <p:nvPr/>
        </p:nvPicPr>
        <p:blipFill>
          <a:blip r:embed="rId4"/>
          <a:stretch/>
        </p:blipFill>
        <p:spPr>
          <a:xfrm>
            <a:off x="4724280" y="1523880"/>
            <a:ext cx="3905280" cy="2286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4" descr="parotitis2"/>
          <p:cNvPicPr/>
          <p:nvPr/>
        </p:nvPicPr>
        <p:blipFill>
          <a:blip r:embed="rId5"/>
          <a:stretch/>
        </p:blipFill>
        <p:spPr>
          <a:xfrm>
            <a:off x="4800600" y="3962520"/>
            <a:ext cx="380988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80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АКУТНИ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АРОТИТ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9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3160" indent="-17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кут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иалоаденити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азва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актерија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гађ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елик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љувач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в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ед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ротидн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ти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бмандибуларну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кут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еспецифич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ротитис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ста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следиц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сцендент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ралн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шупљи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хват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ливар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уктоге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исте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окализу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ротидно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и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бољењ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јављу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тарији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соб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олесни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кутни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хронични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болењи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ји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мање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крециј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пљувач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еђ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болевај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еца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диспонирајућ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актор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стана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сцендент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в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еду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ехидратациј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скуд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рал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хигије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слабље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порнос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рганизма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8554028_f260"/>
          <p:cNvPicPr/>
          <p:nvPr/>
        </p:nvPicPr>
        <p:blipFill>
          <a:blip r:embed="rId2"/>
          <a:stretch/>
        </p:blipFill>
        <p:spPr>
          <a:xfrm>
            <a:off x="762120" y="4038480"/>
            <a:ext cx="2476440" cy="24670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ANd9GcQkw7KD2FY3laCFxIahfD27i_pD6B5kNoPy03EerTKuaXx0RZY8"/>
          <p:cNvPicPr/>
          <p:nvPr/>
        </p:nvPicPr>
        <p:blipFill>
          <a:blip r:embed="rId3"/>
          <a:stretch/>
        </p:blipFill>
        <p:spPr>
          <a:xfrm>
            <a:off x="3581280" y="40356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" descr="prostom31"/>
          <p:cNvPicPr/>
          <p:nvPr/>
        </p:nvPicPr>
        <p:blipFill>
          <a:blip r:embed="rId4"/>
          <a:stretch/>
        </p:blipFill>
        <p:spPr>
          <a:xfrm>
            <a:off x="6172200" y="4035600"/>
            <a:ext cx="2438280" cy="25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8640" y="12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АКУТНИ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АРОТИТ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8520" y="1700280"/>
            <a:ext cx="568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кут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еспецифич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ротити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ави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в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орм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роз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гнојни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роз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ротити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а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о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ротид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лаг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већав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рем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паљење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главн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бухваће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вод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наликулар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истем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о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лаз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границ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ротид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еластич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ека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нзистенци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ола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одир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Експресиј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обиј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ак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муће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крет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пш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нац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инимални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бољењ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вољан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схо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сл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в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р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а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о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губ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крециј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ста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ормална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розни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ротити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ма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руг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ок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дстављ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чета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урулентн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ротитиса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6" descr="ParotitisG"/>
          <p:cNvPicPr/>
          <p:nvPr/>
        </p:nvPicPr>
        <p:blipFill>
          <a:blip r:embed="rId2"/>
          <a:stretch/>
        </p:blipFill>
        <p:spPr>
          <a:xfrm>
            <a:off x="5796000" y="2033640"/>
            <a:ext cx="2743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79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АКУТНИ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АРОТИТ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урулент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ротити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анифесту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гли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ок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ротид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брз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шир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а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ње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ојекци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ак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хват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е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рат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дижућ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урикул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виш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поље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ок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аће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нтензивни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олови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итис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пуративн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оцес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к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иброз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ротид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псуле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ж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ок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хиперемич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тегнут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јај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опла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лпациј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о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ез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асни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границ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чврст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нзистенци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ак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олан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варањ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ст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граниче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ризмусом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азличит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тепена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рифицијум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ливар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пил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тено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в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на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очав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густог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гнојн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крет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лобод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ицањ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урулентн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крета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Експресиј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дсуству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идн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крет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јављу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бил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урулент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креција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о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ротидн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бич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нилатерала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ад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и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ет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јав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илатералн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о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хектични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сцпрљени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олесни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тходни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кутни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бољењима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јав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илатералн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о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еобичн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аж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иференцијално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ијагноз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епидемичн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ротитис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ffffff"/>
                </a:solidFill>
                <a:latin typeface="Arial"/>
              </a:rPr>
              <a:t>АКУТНИ</a:t>
            </a:r>
            <a:r>
              <a:rPr b="1" lang="sr-Latn-C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400" spc="-1" strike="noStrike">
                <a:solidFill>
                  <a:srgbClr val="ffffff"/>
                </a:solidFill>
                <a:latin typeface="Arial"/>
              </a:rPr>
              <a:t>СИАЛОАДЕНИТИС</a:t>
            </a:r>
            <a:r>
              <a:rPr b="1" lang="sr-Latn-C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400" spc="-1" strike="noStrike">
                <a:solidFill>
                  <a:srgbClr val="ffffff"/>
                </a:solidFill>
                <a:latin typeface="Arial"/>
              </a:rPr>
              <a:t>СУБМАНДИБУЛАРНЕ</a:t>
            </a:r>
            <a:r>
              <a:rPr b="1" lang="sr-Latn-C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400" spc="-1" strike="noStrike">
                <a:solidFill>
                  <a:srgbClr val="ffffff"/>
                </a:solidFill>
                <a:latin typeface="Arial"/>
              </a:rPr>
              <a:t>ЖЛЕЗД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5386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кут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иалоаденити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бмандибулар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љувач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чињ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ненадни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ок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бухват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љувачн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вод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нал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бмандибуларно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егиј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ас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спољав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већа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лпатор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олна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вод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на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ече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ола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рункул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хиперемич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ече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понта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лаз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гно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чиј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крециј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јачав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лаг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експресиј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ед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нфекциј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лаз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границ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љувач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азивајућ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ериаденити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целулити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бмандибулар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егиј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нфекциј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а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оме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пштег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тањ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олесни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лажи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имптоми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ег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урулентн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ротитиса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8" descr="SpeidrAbsz"/>
          <p:cNvPicPr/>
          <p:nvPr/>
        </p:nvPicPr>
        <p:blipFill>
          <a:blip r:embed="rId2"/>
          <a:stretch/>
        </p:blipFill>
        <p:spPr>
          <a:xfrm>
            <a:off x="6200640" y="1773360"/>
            <a:ext cx="2529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ЉУВАЧНЕ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ЖЛЕЗ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13840" y="1700280"/>
            <a:ext cx="44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љувач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гзокри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рње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еродигестив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к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нов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унк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вара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уче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љувачк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тој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лик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700-1000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л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љувачни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руп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лик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љувач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пада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ротид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бмандибулар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блингвалн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н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упљ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веза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опстве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вод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нал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-21542040" y="-263027880"/>
            <a:ext cx="646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juva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-7947360" y="-263027880"/>
            <a:ext cx="5020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ˇ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 žlezde su egzokrine žlezde gornjeg aerodigestivnog trakta 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24887880" y="-263027880"/>
            <a:ext cx="1305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ˇ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ja je osnov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-21925800" y="-85482000"/>
            <a:ext cx="1924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kcija stvaranje i lu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-3985200" y="-85482000"/>
            <a:ext cx="1171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ˇ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je pljuva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2163960" y="-85482000"/>
            <a:ext cx="4534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ˇ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. Postoji tri para velikih i oko 700-1000 malih pljuva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30578400" y="-85482000"/>
            <a:ext cx="4903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ˇ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-21926520" y="92063880"/>
            <a:ext cx="2581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lezda. U grupu velikih pljuva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437400" y="92063880"/>
            <a:ext cx="5013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ˇ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h žlezda spadaju: parotidne, submandibularne i sublingval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-21931920" y="269587080"/>
            <a:ext cx="6122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lezde. One su sa usnom dupljom povezane preko sopstvenih izvodnih kanal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6" descr="sal_g_st"/>
          <p:cNvPicPr/>
          <p:nvPr/>
        </p:nvPicPr>
        <p:blipFill>
          <a:blip r:embed="rId2"/>
          <a:stretch/>
        </p:blipFill>
        <p:spPr>
          <a:xfrm>
            <a:off x="4971960" y="1676520"/>
            <a:ext cx="37148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0680" y="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ЛЕЧЕЊЕ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дразуме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мен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нтибиоти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ход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лаз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рис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нтибиограм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дат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рапијск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р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дразумева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окалн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пликаци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нтифлогисти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лкохол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блоз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пољ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игорозн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игијен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с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упљ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зинфицијенс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спира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акод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имулаци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аливац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иму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исел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омбо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луча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бсцес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дикова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циз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ренажа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цизи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рш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пољ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ем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збор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с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авц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циз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р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оди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чу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опографиј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ацијалн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ивца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ХРОНИЧНИ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АРОТИТ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9280" y="1447920"/>
            <a:ext cx="489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ронич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ротити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зи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о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курент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нов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рактеристик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ог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ољењ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нена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јављу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кутн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мптом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ишав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оку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коли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т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оље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стављ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ржа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нац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ронич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л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ступи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симптоматс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ериод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олес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нављ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е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какв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авилн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дослед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мптом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ронич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кут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а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мењујућ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изменично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ђусоб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симптоматск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ериод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оље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аја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уг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и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один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8" descr="acute_infectious_parotitis1"/>
          <p:cNvPicPr/>
          <p:nvPr/>
        </p:nvPicPr>
        <p:blipFill>
          <a:blip r:embed="rId2"/>
          <a:stretch/>
        </p:blipFill>
        <p:spPr>
          <a:xfrm>
            <a:off x="5683320" y="1562040"/>
            <a:ext cx="307980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ХРОНИЧНИ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АРОТИТ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оље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чи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ненад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јав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ол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то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ротид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већав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ок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жвака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т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ш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мањио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то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менљив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личи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ично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а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7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т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лач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понтано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то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лпаци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езбола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а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ола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ластич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к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нзистенц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ухва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м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жлезда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киво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кспресиј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ротид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ифицијум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јављу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гусну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ли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стеж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њо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ок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порог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тица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очав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лов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меса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урулент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л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муће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нека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истрог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кре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еличаст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хуљицам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личи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кре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нат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мањен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олесн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ећ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воћу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с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пријата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кус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ужи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аја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мпт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зличит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ронич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ротити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ази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курентн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зличит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пизода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оле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глед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ротид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крет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јалограф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уж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рагоцен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моћ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јагноз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р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рактеристич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алоектаз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зличи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личи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устине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ХРОНИЧНИ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АРОТИТ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7640" y="1600200"/>
            <a:ext cx="460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Храна која стимулише саливацију, кисели слаткиши, жвакаћа гу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рална хигиј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Хируршко лечење које обухвата субтоталну и тоталну паротидектомију индиковано је код болесника који имају опструктивне сметње са учесталим егзацербацијама у току вишегодишњег пери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6" descr="parotidectomy3forde020409retrogradeb"/>
          <p:cNvPicPr/>
          <p:nvPr/>
        </p:nvPicPr>
        <p:blipFill>
          <a:blip r:embed="rId2"/>
          <a:stretch/>
        </p:blipFill>
        <p:spPr>
          <a:xfrm>
            <a:off x="4876920" y="1989000"/>
            <a:ext cx="388620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MIKULICZ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ВO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3600" spc="-1" strike="noStrike">
                <a:solidFill>
                  <a:srgbClr val="ffffff"/>
                </a:solidFill>
                <a:latin typeface="Arial"/>
              </a:rPr>
              <a:t>БОЉЕЊ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ikulic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в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бољењ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аћен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иметрични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већање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акримални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аливарних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скудно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имптоматологијо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енигни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оком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бољењ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обил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зи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ohan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о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ikulicz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892.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годин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бјави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в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лучај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jögren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СИНДР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2560" y="1285920"/>
            <a:ext cx="4714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2400" indent="-212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тпу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звије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ор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jögr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ндр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аће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ијас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мпт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пад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ератоцоњунцтивити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ц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ростоми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хеуматои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ртхритис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в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мпто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тко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тпун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сут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д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олес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ич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раже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да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дружених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мпт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г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тави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р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сут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јма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в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мпт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мплекс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мање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крец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акримал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ливар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ез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стемск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утоиму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знача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RS" sz="1800" spc="-1" strike="noStrike">
                <a:solidFill>
                  <a:srgbClr val="000000"/>
                </a:solidFill>
                <a:latin typeface="Arial"/>
              </a:rPr>
              <a:t>sicca compl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photo_1-1c55ceda05a10f7be9795067cee243f5"/>
          <p:cNvPicPr/>
          <p:nvPr/>
        </p:nvPicPr>
        <p:blipFill>
          <a:blip r:embed="rId2"/>
          <a:stretch/>
        </p:blipFill>
        <p:spPr>
          <a:xfrm>
            <a:off x="5000760" y="4357800"/>
            <a:ext cx="1447560" cy="21333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0" descr="756148-808418-809290-1782295"/>
          <p:cNvPicPr/>
          <p:nvPr/>
        </p:nvPicPr>
        <p:blipFill>
          <a:blip r:embed="rId3"/>
          <a:stretch/>
        </p:blipFill>
        <p:spPr>
          <a:xfrm>
            <a:off x="5002200" y="1295280"/>
            <a:ext cx="3855960" cy="2952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3" descr="52569694225"/>
          <p:cNvPicPr/>
          <p:nvPr/>
        </p:nvPicPr>
        <p:blipFill>
          <a:blip r:embed="rId4"/>
          <a:stretch/>
        </p:blipFill>
        <p:spPr>
          <a:xfrm>
            <a:off x="6643800" y="4572000"/>
            <a:ext cx="22096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jögren</a:t>
            </a:r>
            <a:r>
              <a:rPr b="1" i="1" lang="sr-Latn-C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СИНД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788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мптоматс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рдини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вис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минант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нифеста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олести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линичк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лик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мини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уматоид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ртрити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н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ри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нтиинфламатор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еков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ртикостероид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шк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ор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рдинира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муносупресив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еков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ече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серостом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серофталм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дразуме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ешћ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но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ч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имулациј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лива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алогогн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еков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илокарпи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иридостигми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вентуал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мен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ртифицијел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лив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штачк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ств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ти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целулоз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СИЈАЛОЛИТИЈА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790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алолитија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ормира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лцификова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нкремена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водн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нал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ренхим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лик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љувач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л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т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л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волу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јалоли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тпу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зна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п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актор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маж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ихо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ормирањ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алоли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ормира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бмандибуларно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ђ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ротидно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ређ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блингвално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и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6" descr="SM+stones"/>
          <p:cNvPicPr/>
          <p:nvPr/>
        </p:nvPicPr>
        <p:blipFill>
          <a:blip r:embed="rId2"/>
          <a:stretch/>
        </p:blipFill>
        <p:spPr>
          <a:xfrm>
            <a:off x="5448240" y="1285920"/>
            <a:ext cx="3048120" cy="18288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Salivary_gland_stone_removed"/>
          <p:cNvPicPr/>
          <p:nvPr/>
        </p:nvPicPr>
        <p:blipFill>
          <a:blip r:embed="rId3"/>
          <a:stretch/>
        </p:blipFill>
        <p:spPr>
          <a:xfrm>
            <a:off x="5381640" y="3486240"/>
            <a:ext cx="310032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0120" y="16524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СИЈАЛОЛИТИЈА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3480" y="1213920"/>
            <a:ext cx="56005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2400" indent="-212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иалоли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меште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водни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нали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љувачни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ад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чег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овлађуј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имптом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епотпу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тпу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пструкције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ал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уг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рем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ста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еопаже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ичињавај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икакв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метњ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понта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спас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ливарној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пили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ећ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иалоли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нал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кретање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кљешт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ести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вој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лазном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вор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ливар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пиле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прек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ицањ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лив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епосред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рем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л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стај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ливар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лик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аће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ок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ечењ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иалолитијаз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вис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аз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окализаци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иалолита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кутно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аз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ају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нтибиотиц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ста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имптоматс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иалолитектомиј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вод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лкулу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водн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налу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нтрагландулар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лкулу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дстрању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екстирпациј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болел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6" descr="maxresdefault"/>
          <p:cNvPicPr/>
          <p:nvPr/>
        </p:nvPicPr>
        <p:blipFill>
          <a:blip r:embed="rId2"/>
          <a:srcRect l="6835" t="6063" r="8465" b="5706"/>
          <a:stretch/>
        </p:blipFill>
        <p:spPr>
          <a:xfrm>
            <a:off x="5724360" y="2427120"/>
            <a:ext cx="322920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ЦИСТЕ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ЉУВАЧНИХ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ЖЛЕЗ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0040" y="152892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ист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дстављ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нос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љувачн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ли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љувачни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лезда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77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л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укокел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нул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" descr="JClinImagingSci_2013_3_2_10_120793_u1"/>
          <p:cNvPicPr/>
          <p:nvPr/>
        </p:nvPicPr>
        <p:blipFill>
          <a:blip r:embed="rId2"/>
          <a:stretch/>
        </p:blipFill>
        <p:spPr>
          <a:xfrm>
            <a:off x="4714920" y="3786120"/>
            <a:ext cx="3197160" cy="24368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ANd9GcTYMl3M_rxqVfBBbJQgfxkgXZLOa59nOqF3XfFXNWbfyzVlskZTuQ"/>
          <p:cNvPicPr/>
          <p:nvPr/>
        </p:nvPicPr>
        <p:blipFill>
          <a:blip r:embed="rId3"/>
          <a:stretch/>
        </p:blipFill>
        <p:spPr>
          <a:xfrm>
            <a:off x="1133640" y="3786120"/>
            <a:ext cx="289548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ЉУВАЧНЕ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ЖЛЕЗДЕ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ОДЕ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2920" y="157176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л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љувач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меште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бмукозн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ло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упљ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аринк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ласифику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натомско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окализациј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абијалн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укалн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латиналн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онзилар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беров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тромоларн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нгвал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ланди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унов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очн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вица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зи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бнеров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арингеал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thyroid_cancer-2"/>
          <p:cNvPicPr/>
          <p:nvPr/>
        </p:nvPicPr>
        <p:blipFill>
          <a:blip r:embed="rId3"/>
          <a:stretch/>
        </p:blipFill>
        <p:spPr>
          <a:xfrm>
            <a:off x="4724280" y="1752480"/>
            <a:ext cx="39117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00" y="1112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МУКОКЕ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5292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укокел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оптаст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ормаци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азличит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еличи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окализова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бмукозалн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лоју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с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упљ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спуње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лузави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држаје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рекл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али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љувачни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честалос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едј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циста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љувачни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укокел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узимај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в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ест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77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хистолошко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градј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укокел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ел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екстравазацио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етенционе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Екстравазацио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укокел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следиц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ецидивант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икротраум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укоз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вик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грицкањ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с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ледствен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штећењ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водн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на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укоз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етенцион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укокел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стај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пструкци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водн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на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икролит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гуснутим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крет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сле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триктур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водн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нала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6" descr="2894742_1472-6831-10-15-5"/>
          <p:cNvPicPr/>
          <p:nvPr/>
        </p:nvPicPr>
        <p:blipFill>
          <a:blip r:embed="rId2"/>
          <a:stretch/>
        </p:blipFill>
        <p:spPr>
          <a:xfrm>
            <a:off x="5594400" y="1413000"/>
            <a:ext cx="3186000" cy="23652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8" descr="mucocele"/>
          <p:cNvPicPr/>
          <p:nvPr/>
        </p:nvPicPr>
        <p:blipFill>
          <a:blip r:embed="rId3"/>
          <a:stretch/>
        </p:blipFill>
        <p:spPr>
          <a:xfrm>
            <a:off x="5580000" y="3959280"/>
            <a:ext cx="318600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МУКОКЕ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99680" y="1214280"/>
            <a:ext cx="803268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укокел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оптаст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бли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лавкас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боје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езбол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луктуира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лпацији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уко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на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промењ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укокел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-1.5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ц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чник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ка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стић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личин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ешњ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линич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зликоват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кставазацио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тенцио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укокел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ече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ирурш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дразуме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кстирпаци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укокел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mucous_retention_cyst1316297207789"/>
          <p:cNvPicPr/>
          <p:nvPr/>
        </p:nvPicPr>
        <p:blipFill>
          <a:blip r:embed="rId3"/>
          <a:stretch/>
        </p:blipFill>
        <p:spPr>
          <a:xfrm>
            <a:off x="380880" y="4038480"/>
            <a:ext cx="2743200" cy="2033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ANd9GcSlmNjl7ak6eMpxPD8ZMzkqKXsz3VK8FRtQn1LkUAmVcQjJi9Ar"/>
          <p:cNvPicPr/>
          <p:nvPr/>
        </p:nvPicPr>
        <p:blipFill>
          <a:blip r:embed="rId4"/>
          <a:stretch/>
        </p:blipFill>
        <p:spPr>
          <a:xfrm>
            <a:off x="3200400" y="40384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0" descr="mucocele-1024x682"/>
          <p:cNvPicPr/>
          <p:nvPr/>
        </p:nvPicPr>
        <p:blipFill>
          <a:blip r:embed="rId5"/>
          <a:stretch/>
        </p:blipFill>
        <p:spPr>
          <a:xfrm>
            <a:off x="6019920" y="4038480"/>
            <a:ext cx="266688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РАНУ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28760" y="1214280"/>
            <a:ext cx="8229600" cy="27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ану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ултилокулар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цист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окализова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бмукоз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дње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ел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д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ст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атерал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RS" sz="1600" spc="-1" strike="noStrike">
                <a:solidFill>
                  <a:srgbClr val="000000"/>
                </a:solidFill>
                <a:latin typeface="Arial"/>
              </a:rPr>
              <a:t>frenulum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RS" sz="1600" spc="-1" strike="noStrike">
                <a:solidFill>
                  <a:srgbClr val="000000"/>
                </a:solidFill>
                <a:latin typeface="Arial"/>
              </a:rPr>
              <a:t>lingua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зив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ану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тич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атинск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ечи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а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нач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аба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зив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јвероватни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зе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личн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глед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в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цист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ранслуцентним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абљи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рбухом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сто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в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рст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ану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едјусоб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азликуј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линичк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глед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врш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ану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убо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анула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6" descr="clip_image002_0004"/>
          <p:cNvPicPr/>
          <p:nvPr/>
        </p:nvPicPr>
        <p:blipFill>
          <a:blip r:embed="rId2"/>
          <a:stretch/>
        </p:blipFill>
        <p:spPr>
          <a:xfrm>
            <a:off x="765000" y="4214880"/>
            <a:ext cx="2587680" cy="19047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8" descr="downloadRANULA"/>
          <p:cNvPicPr/>
          <p:nvPr/>
        </p:nvPicPr>
        <p:blipFill>
          <a:blip r:embed="rId3"/>
          <a:stretch/>
        </p:blipFill>
        <p:spPr>
          <a:xfrm>
            <a:off x="3505320" y="4214880"/>
            <a:ext cx="2590560" cy="19047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0" descr="ANd9GcS39wVCiEBRUjmoO23wuID4XVvdbVWCet62kCnCVO2HOJWQwpUt"/>
          <p:cNvPicPr/>
          <p:nvPr/>
        </p:nvPicPr>
        <p:blipFill>
          <a:blip r:embed="rId4"/>
          <a:stretch/>
        </p:blipFill>
        <p:spPr>
          <a:xfrm>
            <a:off x="6248520" y="4214880"/>
            <a:ext cx="243828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РАНУ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2560" y="1266480"/>
            <a:ext cx="5715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врш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анул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окализова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д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ст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над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. mylohyoideu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убо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анул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ави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в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блика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в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зв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исагаст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анул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чиј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ранијал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е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лаз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на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удал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спод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R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sr-Latn-RS" sz="1600" spc="-1" strike="noStrike">
                <a:solidFill>
                  <a:srgbClr val="000000"/>
                </a:solidFill>
                <a:latin typeface="Arial"/>
              </a:rPr>
              <a:t>mylohyoideus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ва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аријете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убок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анул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гле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ешчан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та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руг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зв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нирућ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ану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чиј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јвећи де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лаз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прахиоидн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рата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врш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ану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рактеристича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линичк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глед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лавкаст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бојен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ек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нзистенци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лаз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дма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спо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лузокож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убо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ану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одор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роз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. mylohyoideus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анифесту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пољашњим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ок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окализу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бменталн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ечењ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анул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хируршко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6" descr="22-1460176%5C35af3e2b-3d43-4eea-a6b1-f44678eb8e48"/>
          <p:cNvPicPr/>
          <p:nvPr/>
        </p:nvPicPr>
        <p:blipFill>
          <a:blip r:embed="rId2"/>
          <a:stretch/>
        </p:blipFill>
        <p:spPr>
          <a:xfrm>
            <a:off x="5808600" y="2428920"/>
            <a:ext cx="312120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ЉУВАЧНЕ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ЖЛЕЗДЕ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ОДЕ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9680" y="1357200"/>
            <a:ext cx="853596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љувач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вис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истоморфолошк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руктур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цину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л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ип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роз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ротид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бнеров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укоз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пча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р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зи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шови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бмандибулар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блингвал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абијал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укал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6" descr="X2604-S-03"/>
          <p:cNvPicPr/>
          <p:nvPr/>
        </p:nvPicPr>
        <p:blipFill>
          <a:blip r:embed="rId2"/>
          <a:stretch/>
        </p:blipFill>
        <p:spPr>
          <a:xfrm>
            <a:off x="2050920" y="3570120"/>
            <a:ext cx="5639040" cy="27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ФУНКЦИЈА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ЉУВАЧ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14200" y="1599840"/>
            <a:ext cx="8715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љувач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унк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ј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значајн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ржава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упљ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лажн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лакшава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вака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ута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ра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лакшава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во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изиолош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ишће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упљ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тектив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муноглобули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sr-Latn-RS" sz="2000" spc="-1" strike="noStrike">
                <a:solidFill>
                  <a:srgbClr val="000000"/>
                </a:solidFill>
                <a:latin typeface="Arial"/>
              </a:rPr>
              <a:t>Ig</a:t>
            </a: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актофери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зоз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ероксида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гестив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нз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мила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почи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гести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корб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кскретор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лкалоид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рус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зрочниц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лиомијели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епати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убеол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r-Latn-RS" sz="2000" spc="-1" strike="noStrike">
                <a:solidFill>
                  <a:srgbClr val="000000"/>
                </a:solidFill>
                <a:latin typeface="Arial"/>
              </a:rPr>
              <a:t>coxacki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r-Latn-RS" sz="2000" spc="-1" strike="noStrike">
                <a:solidFill>
                  <a:srgbClr val="000000"/>
                </a:solidFill>
                <a:latin typeface="Arial"/>
              </a:rPr>
              <a:t>AI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пстан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рв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руп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редничк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лог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ул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ку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стварањ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пстан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безб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вањ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ихов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нтак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устативн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рпускул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ВЕЛИКЕ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ЉУВАЧНЕ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ЖЛЕЗ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image"/>
          <p:cNvPicPr/>
          <p:nvPr/>
        </p:nvPicPr>
        <p:blipFill>
          <a:blip r:embed="rId2"/>
          <a:stretch/>
        </p:blipFill>
        <p:spPr>
          <a:xfrm>
            <a:off x="990720" y="1371600"/>
            <a:ext cx="716256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АРОТИДНА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ЖЛЕЗ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495680" y="1676520"/>
            <a:ext cx="426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аротидна жлезда је највећа пљувачна жлезда, искључиво серозног тип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астоји се из два лобуса, суперфицијалног и дубоко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роз ткиво жлезде пролаз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. facialis, n. auriculotemporalis, n. auricularis magnus, v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cialis posteri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пољна југуларна вена, стабло спољне каротидне артерије која се горњем делу жлезде рачва у завршне жлезде и дубоке паротидне лимфне чворо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0" descr="saliva19a"/>
          <p:cNvPicPr/>
          <p:nvPr/>
        </p:nvPicPr>
        <p:blipFill>
          <a:blip r:embed="rId2"/>
          <a:stretch/>
        </p:blipFill>
        <p:spPr>
          <a:xfrm>
            <a:off x="457200" y="1828800"/>
            <a:ext cx="3733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СУБМАНДИБУЛАРНА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ЖЛЕЗ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292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бмандибулар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љувач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им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лови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личи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ротид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меште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бмандибулар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стор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ме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аз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ндибул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иоид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криве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псул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рад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рш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асц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ра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стир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иоид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аз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ндибуле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жлезда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ва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вод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на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RS" sz="1800" spc="-1" strike="noStrike">
                <a:solidFill>
                  <a:srgbClr val="000000"/>
                </a:solidFill>
                <a:latin typeface="Arial"/>
              </a:rPr>
              <a:t>ductus submandibularis Wharton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тва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caruncula sublingual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јед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артхоли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дјезичн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нал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ред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ренулу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зик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salivanet47"/>
          <p:cNvPicPr/>
          <p:nvPr/>
        </p:nvPicPr>
        <p:blipFill>
          <a:blip r:embed="rId2"/>
          <a:stretch/>
        </p:blipFill>
        <p:spPr>
          <a:xfrm>
            <a:off x="4762440" y="2519280"/>
            <a:ext cx="381024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СУБЛИНГВАЛНА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ЖЛЕЗ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2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дјезич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ма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лик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љувач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мешт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дјезичн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упљ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лав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вод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на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артхоли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је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на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два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редње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л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нутраш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ра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блингвал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врша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RS" sz="2000" spc="-1" strike="noStrike">
                <a:solidFill>
                  <a:srgbClr val="000000"/>
                </a:solidFill>
                <a:latin typeface="Arial"/>
              </a:rPr>
              <a:t>caruncula sublingual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јед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sr-Latn-RS" sz="2000" spc="-1" strike="noStrike">
                <a:solidFill>
                  <a:srgbClr val="000000"/>
                </a:solidFill>
                <a:latin typeface="Arial"/>
              </a:rPr>
              <a:t>hartonovi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нал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ре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ег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7" descr="salivanet53"/>
          <p:cNvPicPr/>
          <p:nvPr/>
        </p:nvPicPr>
        <p:blipFill>
          <a:blip r:embed="rId2"/>
          <a:stretch/>
        </p:blipFill>
        <p:spPr>
          <a:xfrm>
            <a:off x="4648320" y="2300400"/>
            <a:ext cx="4038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ilos</cp:lastModifiedBy>
  <dcterms:modified xsi:type="dcterms:W3CDTF">2015-09-02T12:29:17Z</dcterms:modified>
  <cp:revision>739</cp:revision>
  <dc:subject/>
  <dc:title>Diapositiva 1</dc:title>
</cp:coreProperties>
</file>